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7.jpeg" ContentType="image/jpeg"/>
  <Override PartName="/ppt/media/image10.png" ContentType="image/png"/>
  <Override PartName="/ppt/media/image5.wmf" ContentType="image/x-wmf"/>
  <Override PartName="/ppt/media/image6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5011-84E8-4A05-8729-803F0EF6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FCC-3B11-49CC-8743-E9BC8197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EBB3-4C04-4228-B815-72137EB3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854C-1681-42FC-BF13-702E2D40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FA16-FB81-4E06-A25F-4868ACB8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6F07-9CE0-4951-AC1F-D1646AE4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0113-F66D-4D3F-BACB-78C6AA2A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6F9F-D556-4E54-A420-31CE72AF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8F59-DE9B-4AA2-92F0-5DB55DE6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3F01-5D56-4187-9364-55039238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939A-98BC-42D9-BB2C-DCF98E11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732C-8FE1-4B00-A855-E3182798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04A3-F7AA-49C6-923E-026B6BE57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hno.com/images/larynx.gif" TargetMode="External"/><Relationship Id="rId2" Type="http://schemas.openxmlformats.org/officeDocument/2006/relationships/hyperlink" Target="http://images.google.com/imgres?imgurl=www.ishno.com/images/larynx.gif&amp;imgrefurl=http://www.ishno.com/lar.htm&amp;h=217&amp;w=265&amp;sz=23&amp;tbnid=ZjTkp3koqrcJ:&amp;tbnh=88&amp;tbnw=107&amp;start=1&amp;prev=/images?q=larynx&amp;hl=en&amp;lr=" TargetMode="External"/><Relationship Id="rId3" Type="http://schemas.openxmlformats.org/officeDocument/2006/relationships/hyperlink" Target="http://images.google.com/imgres?imgurl=www.interq.or.jp/kyuushu/sas/pharynx.gif&amp;imgrefurl=http://www.interq.or.jp/kyuushu/sas/nani.htm&amp;h=385&amp;w=368&amp;sz=7&amp;tbnid=pVRJGTAYM_0J:&amp;tbnh=118&amp;tbnw=112&amp;start=4&amp;prev=/images?q=pharynx&amp;hl=en&amp;lr=&amp;sa=N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280BLOWINGCLOUD"/>
          <p:cNvPicPr/>
          <p:nvPr/>
        </p:nvPicPr>
        <p:blipFill>
          <a:blip r:embed="rId1"/>
          <a:stretch/>
        </p:blipFill>
        <p:spPr>
          <a:xfrm>
            <a:off x="685800" y="2743200"/>
            <a:ext cx="8001000" cy="3838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lackadder ITC"/>
              </a:rPr>
              <a:t>RESPIRATION</a:t>
            </a:r>
            <a:br>
              <a:rPr sz="72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goal of respira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00200" y="20574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hange gas between an organism &amp; the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[]"/>
          <p:cNvPicPr/>
          <p:nvPr/>
        </p:nvPicPr>
        <p:blipFill>
          <a:blip r:embed="rId1"/>
          <a:stretch/>
        </p:blipFill>
        <p:spPr>
          <a:xfrm>
            <a:off x="380880" y="609480"/>
            <a:ext cx="8458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Hemoglobin"/>
          <p:cNvPicPr/>
          <p:nvPr/>
        </p:nvPicPr>
        <p:blipFill>
          <a:blip r:embed="rId1"/>
          <a:stretch/>
        </p:blipFill>
        <p:spPr>
          <a:xfrm>
            <a:off x="457200" y="1905120"/>
            <a:ext cx="8229600" cy="46479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MOGLOBIN binds with so much oxygen that it increases the oxygen carrying- capacity of the blood more than 60 tim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the structures of the respiratory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es gas exchange occu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xt: What is the difference betwe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iration and breath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F:\392\other392\Biology 392\Unit 4 - Chapter 37\resp system.gif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eat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eathing is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vement of air into and ou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the lu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ngs sit in two sacs =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eural membr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bottom of the chest cavity is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aphrag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ween ribs ar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costal mus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ce that drives breathing is air 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muscles are directly connected to the lu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have a container of ga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ill the pressure change if you make the container smalle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it larg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4267080" y="3733920"/>
            <a:ext cx="1371600" cy="220968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2209680"/>
              <a:gd name="textAreaBottom" fmla="*/ 2142720 h 2209680"/>
            </a:gdLst>
            <a:ahLst/>
            <a:rect l="textAreaLeft" t="textAreaTop" r="textAreaRight" b="textAreaBottom"/>
            <a:pathLst>
              <a:path w="21600" h="34795">
                <a:moveTo>
                  <a:pt x="3600" y="0"/>
                </a:moveTo>
                <a:arcTo wR="3600" hR="3600" stAng="16200000" swAng="-5400000"/>
                <a:lnTo>
                  <a:pt x="0" y="31195"/>
                </a:lnTo>
                <a:arcTo wR="3600" hR="3600" stAng="10800000" swAng="-5400000"/>
                <a:lnTo>
                  <a:pt x="18000" y="347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6477120" y="4724280"/>
            <a:ext cx="914400" cy="121932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219320"/>
              <a:gd name="textAreaBottom" fmla="*/ 1174680 h 12193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7"/>
          <p:cNvSpPr/>
          <p:nvPr/>
        </p:nvSpPr>
        <p:spPr>
          <a:xfrm>
            <a:off x="4648320" y="5562720"/>
            <a:ext cx="22860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4724280" y="4114800"/>
            <a:ext cx="22860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9"/>
          <p:cNvSpPr/>
          <p:nvPr/>
        </p:nvSpPr>
        <p:spPr>
          <a:xfrm>
            <a:off x="4648320" y="4952880"/>
            <a:ext cx="22860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5257800" y="5410080"/>
            <a:ext cx="22860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5105520" y="4572000"/>
            <a:ext cx="22860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6705720" y="5562720"/>
            <a:ext cx="22860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3"/>
          <p:cNvSpPr/>
          <p:nvPr/>
        </p:nvSpPr>
        <p:spPr>
          <a:xfrm>
            <a:off x="6629400" y="5181480"/>
            <a:ext cx="22860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4"/>
          <p:cNvSpPr/>
          <p:nvPr/>
        </p:nvSpPr>
        <p:spPr>
          <a:xfrm>
            <a:off x="7010280" y="5486400"/>
            <a:ext cx="22860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5"/>
          <p:cNvSpPr/>
          <p:nvPr/>
        </p:nvSpPr>
        <p:spPr>
          <a:xfrm>
            <a:off x="6858000" y="4800600"/>
            <a:ext cx="22860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6"/>
          <p:cNvSpPr/>
          <p:nvPr/>
        </p:nvSpPr>
        <p:spPr>
          <a:xfrm>
            <a:off x="7086600" y="5029200"/>
            <a:ext cx="22860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h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you inhale,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aphragm contrac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ands the volu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chest ca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 the chest cavity is tightly sealed, this creates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tial vacuu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ide the ca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 rushes into the lungs as a resu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breathingmuscles"/>
          <p:cNvPicPr/>
          <p:nvPr/>
        </p:nvPicPr>
        <p:blipFill>
          <a:blip r:embed="rId1"/>
          <a:stretch/>
        </p:blipFill>
        <p:spPr>
          <a:xfrm>
            <a:off x="533520" y="609480"/>
            <a:ext cx="8305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h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haling is a passive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phragm relaxes and lungs return to normal size, placing pressure on the lu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r rushes out of the lu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ln18c"/>
          <p:cNvPicPr/>
          <p:nvPr/>
        </p:nvPicPr>
        <p:blipFill>
          <a:blip r:embed="rId1"/>
          <a:stretch/>
        </p:blipFill>
        <p:spPr>
          <a:xfrm>
            <a:off x="380880" y="3276720"/>
            <a:ext cx="8001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uses breath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uscles are involved with breath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they attached to the lung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uch air can you breath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ontrols your breath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PI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ea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ha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ha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609480"/>
            <a:ext cx="3352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USE OXY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EA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BON DIOX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xchange between air, blood, t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breathingmechanics"/>
          <p:cNvPicPr/>
          <p:nvPr/>
        </p:nvPicPr>
        <p:blipFill>
          <a:blip r:embed="rId1"/>
          <a:stretch/>
        </p:blipFill>
        <p:spPr>
          <a:xfrm>
            <a:off x="3809880" y="304920"/>
            <a:ext cx="4953240" cy="62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respiratorysystem"/>
          <p:cNvPicPr/>
          <p:nvPr/>
        </p:nvPicPr>
        <p:blipFill>
          <a:blip r:embed="rId1"/>
          <a:stretch/>
        </p:blipFill>
        <p:spPr>
          <a:xfrm>
            <a:off x="4191120" y="228600"/>
            <a:ext cx="4676760" cy="640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809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PIRATOR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STRUCTU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952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se/mou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aryn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yn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ch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lu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bronch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nchio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veo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Vessels: pulmonary artery + vein, capilla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uth/N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2666520"/>
            <a:ext cx="769608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ir enter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spiratory system through these two struc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ir is filtered, warmed, and moiste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HM00387_"/>
          <p:cNvPicPr/>
          <p:nvPr/>
        </p:nvPicPr>
        <p:blipFill>
          <a:blip r:embed="rId1"/>
          <a:stretch/>
        </p:blipFill>
        <p:spPr>
          <a:xfrm rot="19897200">
            <a:off x="95040" y="658440"/>
            <a:ext cx="3330360" cy="220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M00388_"/>
          <p:cNvPicPr/>
          <p:nvPr/>
        </p:nvPicPr>
        <p:blipFill>
          <a:blip r:embed="rId2"/>
          <a:stretch/>
        </p:blipFill>
        <p:spPr>
          <a:xfrm>
            <a:off x="6172200" y="304920"/>
            <a:ext cx="2421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RYNX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 of mou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nd behind the uvu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s as a passageway f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ir and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YNX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ice box, Adam’s ap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ains vocal c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loose flaps of t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 of the trachea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pharynx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9920" y="304920"/>
            <a:ext cx="26575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HE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ndpi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NCHI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ranch from trach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NCHIOL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umerous branches fro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bronch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nchiti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flammation of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nchi/bronchi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bronchi"/>
          <p:cNvPicPr/>
          <p:nvPr/>
        </p:nvPicPr>
        <p:blipFill>
          <a:blip r:embed="rId1"/>
          <a:stretch/>
        </p:blipFill>
        <p:spPr>
          <a:xfrm>
            <a:off x="6705720" y="457200"/>
            <a:ext cx="22096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380880"/>
            <a:ext cx="40384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n layer of mucu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produced on the lining of the tubes of the respiratory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thin laye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ps partic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dust or smo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tubes are lined with CILIA th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weep away parti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tubes are made of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til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are surrounded by smooth mus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rcRect l="596" t="946" r="57971" b="3489"/>
          <a:stretch/>
        </p:blipFill>
        <p:spPr>
          <a:xfrm>
            <a:off x="4724280" y="533520"/>
            <a:ext cx="4191120" cy="6095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VEOL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structures at the end of each bronchi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 in clu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ce where gas exchange occ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xygen into blood, carbon dioxide into l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is surrounded by capillarie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00 million alveol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in a healthy l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rge surface are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gas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xygen dissolves in the moistu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can then diffuse into the capilla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iffuses in the opposite dir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asthma-alveoli"/>
          <p:cNvPicPr/>
          <p:nvPr/>
        </p:nvPicPr>
        <p:blipFill>
          <a:blip r:embed="rId1"/>
          <a:stretch/>
        </p:blipFill>
        <p:spPr>
          <a:xfrm>
            <a:off x="6629400" y="4419720"/>
            <a:ext cx="22860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21:06:05Z</dcterms:created>
  <dc:creator>Joanne Lilliendahl</dc:creator>
  <dc:description/>
  <dc:language>en-US</dc:language>
  <cp:lastModifiedBy>MVanElli</cp:lastModifiedBy>
  <dcterms:modified xsi:type="dcterms:W3CDTF">2011-02-24T20:49:39Z</dcterms:modified>
  <cp:revision>15</cp:revision>
  <dc:subject/>
  <dc:title>RESPIRATION</dc:title>
</cp:coreProperties>
</file>